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ECF6-5CAE-443B-9BF8-3B7E097B2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6A64-BF29-4C4A-A1CB-A3268600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58FB-9C7B-4CB8-A664-D3853AB6A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F8BF-0FE8-401A-9BF6-C56BDD803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102F-112C-4F49-B400-CF4E633A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B2C7-5F95-4782-9CF9-3E820BEF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379E-22DC-4A10-A336-7BCD10BE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F2A3-E75D-439E-9183-7EC4A21A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5C47-7E71-403A-8901-6D1A19D5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BD3F-D521-4B4A-8D1D-0230B324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4E78B-5630-4B33-B661-E38D9795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A7ED-7F7D-415E-80A6-59F58AD4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DF71-D5B7-42C7-99FC-EC2EAB48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C63C-3E21-44EE-BA9D-95E0336C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76EB-C69B-45EE-9DAA-815BEFE3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86CA-847F-40AD-9B4A-24F8D47A1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BD55-1F53-492E-836F-A5535E476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02E8E-3173-45C9-A44E-AA0F530A2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A97A3-A857-407B-A3B1-C45BE0AD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39326-1C4A-4C88-A25D-D46D6A8A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E0E33-2F21-4F24-9CA9-16C9BDBD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63DD6-5FE1-4EF5-A128-47F2E853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B5FB-4688-4765-BD41-A8201C53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12E98-1F76-416B-9789-DDEC533A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2614E-3CF8-4DAE-9AA6-A5569C08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64E84-A733-4CE3-8960-01DDF18C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8B855-D57A-484B-BD77-84E90233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50D2E-4DDE-412D-9394-2F3C582D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6E31E-9587-4F13-94E4-15EF92F56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30131-54FD-4471-9EBB-5FFF11D5E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0EF0E-D561-4FEC-9CD8-AAB994322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0E68D-546F-4845-9AC9-2A015354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71750-C76D-472A-AC25-9A9B4F72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0A11-B512-4459-A700-67CA6533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72028-5FD8-4661-B2B2-F8045401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DE93D-A943-4C6B-81D6-98FE4D59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CB42F-0F64-4F68-8767-591B4BDD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5502D-3820-4206-8AB3-D9B684CF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14A92-6AEC-496F-A914-DD48C14D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CD424-B339-4FAB-A332-D961AB3D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72321-515C-4268-9C6E-CC7B11D4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B2E2A-5CD2-40A0-90EC-DEA73FFEF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25D09-DAF0-406E-BE99-AEB33954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A103-5750-47A9-8E0E-9027FFB2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5C38-1AE7-46DD-A4B5-4956F6DD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43F0-E1ED-44B6-A9D2-531CC381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B899-44D0-447B-9013-3CC84A9F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3BA2-7142-4682-8591-19E71D53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ACDE-D4C9-4F75-BBFC-AFFA0B690C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58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grpSp>
          <p:nvGrpSpPr>
            <p:cNvPr id="59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60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61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62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sp>
          <p:nvSpPr>
            <p:cNvPr id="63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grpSp>
          <p:nvGrpSpPr>
            <p:cNvPr id="64" name="Group 9"/>
            <p:cNvGrpSpPr/>
            <p:nvPr/>
          </p:nvGrpSpPr>
          <p:grpSpPr>
            <a:xfrm>
              <a:off x="-1080" y="2601000"/>
              <a:ext cx="2687040" cy="3118320"/>
              <a:chOff x="-1080" y="2601000"/>
              <a:chExt cx="2687040" cy="3118320"/>
            </a:xfrm>
          </p:grpSpPr>
          <p:sp>
            <p:nvSpPr>
              <p:cNvPr id="65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66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67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68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69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grpSp>
            <p:nvGrpSpPr>
              <p:cNvPr id="70" name="Group 15"/>
              <p:cNvGrpSpPr/>
              <p:nvPr/>
            </p:nvGrpSpPr>
            <p:grpSpPr>
              <a:xfrm>
                <a:off x="852480" y="4052520"/>
                <a:ext cx="1833480" cy="1666800"/>
                <a:chOff x="852480" y="4052520"/>
                <a:chExt cx="1833480" cy="1666800"/>
              </a:xfrm>
            </p:grpSpPr>
            <p:sp>
              <p:nvSpPr>
                <p:cNvPr id="71" name="Freeform 16"/>
                <p:cNvSpPr/>
                <p:nvPr/>
              </p:nvSpPr>
              <p:spPr>
                <a:xfrm flipH="1" rot="7102800">
                  <a:off x="1270440" y="3938400"/>
                  <a:ext cx="477360" cy="12355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72" name="Freeform 17"/>
                <p:cNvSpPr/>
                <p:nvPr/>
              </p:nvSpPr>
              <p:spPr>
                <a:xfrm flipH="1" rot="7102800">
                  <a:off x="2352960" y="4978800"/>
                  <a:ext cx="110520" cy="506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73" name="Freeform 18"/>
                <p:cNvSpPr/>
                <p:nvPr/>
              </p:nvSpPr>
              <p:spPr>
                <a:xfrm flipH="1" rot="7102800">
                  <a:off x="2499480" y="5567400"/>
                  <a:ext cx="200880" cy="856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74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75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76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77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grpSp>
          <p:nvGrpSpPr>
            <p:cNvPr id="78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79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0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1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grpSp>
          <p:nvGrpSpPr>
            <p:cNvPr id="82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83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4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5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sp>
          <p:nvSpPr>
            <p:cNvPr id="86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4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5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6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7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8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9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CBB8-42FD-4695-B2EE-DFEEA81E02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42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3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4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5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6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7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8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1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2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3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4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5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6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0257-B427-4413-8258-5DAB7EC7DB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199" name="Group 3"/>
            <p:cNvGrpSpPr/>
            <p:nvPr/>
          </p:nvGrpSpPr>
          <p:grpSpPr>
            <a:xfrm>
              <a:off x="5403240" y="60120"/>
              <a:ext cx="3627360" cy="6139080"/>
              <a:chOff x="5403240" y="60120"/>
              <a:chExt cx="3627360" cy="6139080"/>
            </a:xfrm>
          </p:grpSpPr>
          <p:sp>
            <p:nvSpPr>
              <p:cNvPr id="200" name="Freeform 4"/>
              <p:cNvSpPr/>
              <p:nvPr/>
            </p:nvSpPr>
            <p:spPr>
              <a:xfrm flipV="1" rot="11970000">
                <a:off x="6582240" y="345240"/>
                <a:ext cx="211536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01" name="Freeform 5"/>
              <p:cNvSpPr/>
              <p:nvPr/>
            </p:nvSpPr>
            <p:spPr>
              <a:xfrm flipV="1" rot="11970000">
                <a:off x="7421400" y="196092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02" name="Freeform 6"/>
              <p:cNvSpPr/>
              <p:nvPr/>
            </p:nvSpPr>
            <p:spPr>
              <a:xfrm flipV="1" rot="11970000">
                <a:off x="6823440" y="259020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03" name="Freeform 7"/>
              <p:cNvSpPr/>
              <p:nvPr/>
            </p:nvSpPr>
            <p:spPr>
              <a:xfrm flipV="1" rot="11970000">
                <a:off x="7250040" y="67248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04" name="Freeform 8"/>
              <p:cNvSpPr/>
              <p:nvPr/>
            </p:nvSpPr>
            <p:spPr>
              <a:xfrm flipV="1" rot="11970000">
                <a:off x="7147800" y="265176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05" name="Freeform 9"/>
              <p:cNvSpPr/>
              <p:nvPr/>
            </p:nvSpPr>
            <p:spPr>
              <a:xfrm flipV="1" rot="11970000">
                <a:off x="7132680" y="1243440"/>
                <a:ext cx="19044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06" name="Freeform 10"/>
              <p:cNvSpPr/>
              <p:nvPr/>
            </p:nvSpPr>
            <p:spPr>
              <a:xfrm flipV="1" rot="11970000">
                <a:off x="5933880" y="293724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sp>
          <p:nvSpPr>
            <p:cNvPr id="207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grpSp>
          <p:nvGrpSpPr>
            <p:cNvPr id="213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214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5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6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grpSp>
          <p:nvGrpSpPr>
            <p:cNvPr id="217" name="Group 21"/>
            <p:cNvGrpSpPr/>
            <p:nvPr/>
          </p:nvGrpSpPr>
          <p:grpSpPr>
            <a:xfrm>
              <a:off x="5644080" y="282240"/>
              <a:ext cx="892800" cy="825480"/>
              <a:chOff x="5644080" y="282240"/>
              <a:chExt cx="892800" cy="825480"/>
            </a:xfrm>
          </p:grpSpPr>
          <p:sp>
            <p:nvSpPr>
              <p:cNvPr id="218" name="Freeform 22"/>
              <p:cNvSpPr/>
              <p:nvPr/>
            </p:nvSpPr>
            <p:spPr>
              <a:xfrm rot="14908200">
                <a:off x="5755680" y="77688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9" name="Freeform 23"/>
              <p:cNvSpPr/>
              <p:nvPr/>
            </p:nvSpPr>
            <p:spPr>
              <a:xfrm rot="14908200">
                <a:off x="5704560" y="45720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0" name="Freeform 24"/>
              <p:cNvSpPr/>
              <p:nvPr/>
            </p:nvSpPr>
            <p:spPr>
              <a:xfrm rot="14908200">
                <a:off x="6247800" y="381960"/>
                <a:ext cx="31896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grpSp>
          <p:nvGrpSpPr>
            <p:cNvPr id="221" name="Group 25"/>
            <p:cNvGrpSpPr/>
            <p:nvPr/>
          </p:nvGrpSpPr>
          <p:grpSpPr>
            <a:xfrm>
              <a:off x="968760" y="5253480"/>
              <a:ext cx="1059120" cy="829800"/>
              <a:chOff x="968760" y="5253480"/>
              <a:chExt cx="1059120" cy="829800"/>
            </a:xfrm>
          </p:grpSpPr>
          <p:sp>
            <p:nvSpPr>
              <p:cNvPr id="222" name="Freeform 26"/>
              <p:cNvSpPr/>
              <p:nvPr/>
            </p:nvSpPr>
            <p:spPr>
              <a:xfrm rot="8524800">
                <a:off x="1711080" y="551844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3" name="Freeform 27"/>
              <p:cNvSpPr/>
              <p:nvPr/>
            </p:nvSpPr>
            <p:spPr>
              <a:xfrm rot="8524800">
                <a:off x="1193040" y="572868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4" name="Freeform 28"/>
              <p:cNvSpPr/>
              <p:nvPr/>
            </p:nvSpPr>
            <p:spPr>
              <a:xfrm rot="8524800">
                <a:off x="96012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grpSp>
          <p:nvGrpSpPr>
            <p:cNvPr id="225" name="Group 29"/>
            <p:cNvGrpSpPr/>
            <p:nvPr/>
          </p:nvGrpSpPr>
          <p:grpSpPr>
            <a:xfrm>
              <a:off x="375840" y="432000"/>
              <a:ext cx="1690200" cy="1146600"/>
              <a:chOff x="375840" y="432000"/>
              <a:chExt cx="1690200" cy="1146600"/>
            </a:xfrm>
          </p:grpSpPr>
          <p:sp>
            <p:nvSpPr>
              <p:cNvPr id="226" name="Freeform 30"/>
              <p:cNvSpPr/>
              <p:nvPr/>
            </p:nvSpPr>
            <p:spPr>
              <a:xfrm flipH="1" rot="4107000">
                <a:off x="1576080" y="105048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7" name="Freeform 31"/>
              <p:cNvSpPr/>
              <p:nvPr/>
            </p:nvSpPr>
            <p:spPr>
              <a:xfrm flipH="1" rot="4107000">
                <a:off x="1022760" y="57564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8" name="Freeform 32"/>
              <p:cNvSpPr/>
              <p:nvPr/>
            </p:nvSpPr>
            <p:spPr>
              <a:xfrm flipH="1" rot="4107000">
                <a:off x="278640" y="108936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grpSp>
          <p:nvGrpSpPr>
            <p:cNvPr id="229" name="Group 33"/>
            <p:cNvGrpSpPr/>
            <p:nvPr/>
          </p:nvGrpSpPr>
          <p:grpSpPr>
            <a:xfrm>
              <a:off x="7396560" y="3712320"/>
              <a:ext cx="1155600" cy="1607760"/>
              <a:chOff x="7396560" y="3712320"/>
              <a:chExt cx="1155600" cy="1607760"/>
            </a:xfrm>
          </p:grpSpPr>
          <p:sp>
            <p:nvSpPr>
              <p:cNvPr id="230" name="Freeform 34"/>
              <p:cNvSpPr/>
              <p:nvPr/>
            </p:nvSpPr>
            <p:spPr>
              <a:xfrm flipH="1" rot="10015800">
                <a:off x="745128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31" name="Freeform 35"/>
              <p:cNvSpPr/>
              <p:nvPr/>
            </p:nvSpPr>
            <p:spPr>
              <a:xfrm flipH="1" rot="10015800">
                <a:off x="790200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32" name="Freeform 36"/>
              <p:cNvSpPr/>
              <p:nvPr/>
            </p:nvSpPr>
            <p:spPr>
              <a:xfrm flipH="1" rot="10015800">
                <a:off x="759456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sp>
          <p:nvSpPr>
            <p:cNvPr id="233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4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5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6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7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8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9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059E-1C20-4A4A-A95A-CC9FC7F1C34E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44000" cy="347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Урок русского языка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2 класс </a:t>
            </a:r>
            <a:br>
              <a:rPr sz="2800"/>
            </a:b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УМК «Школа России»</a:t>
            </a: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Учебник «Русский язык 2 класс»</a:t>
            </a: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Канакина В.П., Горецкий В.Г.</a:t>
            </a:r>
            <a:br>
              <a:rPr sz="2000"/>
            </a:br>
            <a:br>
              <a:rPr sz="2000"/>
            </a:b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Тема: удвоенные согласные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995280" y="4723920"/>
            <a:ext cx="486108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Учитель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Светлакова Татьяна Николаевн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МБОУ СОШ №3 г.Агрыз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Гу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лл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вер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2428920" y="2271600"/>
            <a:ext cx="428616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Выставка кни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648320" y="3903480"/>
            <a:ext cx="4038480" cy="21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9" name="Picture 2" descr="E:\отчет веронике николаевне\чип.jpg"/>
          <p:cNvPicPr/>
          <p:nvPr/>
        </p:nvPicPr>
        <p:blipFill>
          <a:blip r:embed="rId1"/>
          <a:stretch/>
        </p:blipFill>
        <p:spPr>
          <a:xfrm>
            <a:off x="0" y="1500120"/>
            <a:ext cx="3071880" cy="25718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3" descr="E:\отчет веронике николаевне\винн.jpg"/>
          <p:cNvPicPr/>
          <p:nvPr/>
        </p:nvPicPr>
        <p:blipFill>
          <a:blip r:embed="rId2"/>
          <a:stretch/>
        </p:blipFill>
        <p:spPr>
          <a:xfrm>
            <a:off x="3214800" y="2000160"/>
            <a:ext cx="2643120" cy="36435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E:\отчет веронике николаевне\гуливер.jpg"/>
          <p:cNvPicPr/>
          <p:nvPr/>
        </p:nvPicPr>
        <p:blipFill>
          <a:blip r:embed="rId3"/>
          <a:stretch/>
        </p:blipFill>
        <p:spPr>
          <a:xfrm>
            <a:off x="6072120" y="2357280"/>
            <a:ext cx="2838600" cy="38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Verdana"/>
              </a:rPr>
              <a:t>Имена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Анна, Инна, Алла, Геннадий.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j0415472"/>
          <p:cNvPicPr/>
          <p:nvPr/>
        </p:nvPicPr>
        <p:blipFill>
          <a:blip r:embed="rId1"/>
          <a:stretch/>
        </p:blipFill>
        <p:spPr>
          <a:xfrm>
            <a:off x="1835280" y="907920"/>
            <a:ext cx="2966760" cy="3024360"/>
          </a:xfrm>
          <a:prstGeom prst="rect">
            <a:avLst/>
          </a:prstGeom>
          <a:ln w="0">
            <a:noFill/>
          </a:ln>
        </p:spPr>
      </p:pic>
      <p:sp>
        <p:nvSpPr>
          <p:cNvPr id="325" name="WordArt 3"/>
          <p:cNvSpPr txBox="1"/>
          <p:nvPr/>
        </p:nvSpPr>
        <p:spPr>
          <a:xfrm>
            <a:off x="2268360" y="3645000"/>
            <a:ext cx="936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оро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6" name="WordArt 4"/>
          <p:cNvSpPr txBox="1"/>
          <p:nvPr/>
        </p:nvSpPr>
        <p:spPr>
          <a:xfrm rot="1680600">
            <a:off x="3564000" y="3645000"/>
            <a:ext cx="576360" cy="31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ло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5292720" y="476280"/>
            <a:ext cx="503280" cy="60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ж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5651640" y="476280"/>
            <a:ext cx="502920" cy="60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ж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39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1715760" y="979560"/>
            <a:ext cx="968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Ан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Ин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Ал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Ген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2549520" y="15382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на 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2" name="Text Box 7"/>
          <p:cNvSpPr/>
          <p:nvPr/>
        </p:nvSpPr>
        <p:spPr>
          <a:xfrm>
            <a:off x="2268360" y="20606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на 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3" name="Text Box 8"/>
          <p:cNvSpPr/>
          <p:nvPr/>
        </p:nvSpPr>
        <p:spPr>
          <a:xfrm>
            <a:off x="2050920" y="263700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ла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4" name="Text Box 12"/>
          <p:cNvSpPr/>
          <p:nvPr/>
        </p:nvSpPr>
        <p:spPr>
          <a:xfrm>
            <a:off x="2282760" y="317196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надий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81481E-006 L 0.06493 0.00186 E">
                                      <p:cBhvr>
                                        <p:cTn id="145" dur="5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07407E-006 L 0.07622 -4.07407E-006 E">
                                      <p:cBhvr>
                                        <p:cTn id="149" dur="5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 L 0.09861 -0.00185 E">
                                      <p:cBhvr>
                                        <p:cTn id="153" dur="5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40741E-007 L 0.07327 0.00046 E">
                                      <p:cBhvr>
                                        <p:cTn id="157" dur="5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н-на, Ин-на, Ал-ла, Ген-надий, Генна-ди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Самостоятельная рабо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Упражнение 189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пп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рат, су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бб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та, телегра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мм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, хо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кк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еист, ко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лл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екция, те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рр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са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рфогра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мм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, А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нн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, па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сс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жир, програ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мм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, кро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сс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вк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Хок-кеист, хокке-ист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Эй Ар Гайд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428760" y="1357200"/>
          <a:ext cx="8229600" cy="5048280"/>
        </p:xfrm>
        <a:graphic>
          <a:graphicData uri="http://schemas.openxmlformats.org/drawingml/2006/table">
            <a:tbl>
              <a:tblPr/>
              <a:tblGrid>
                <a:gridCol w="1114200"/>
                <a:gridCol w="5815080"/>
                <a:gridCol w="1300320"/>
              </a:tblGrid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До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Утверждения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После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Удвоенные согласные - это две одинаковые согласные буквы, которые в слове стоят рядом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Удвоенные согласные в слове – это орфограмма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лова с удвоенной согласной – это словарные слова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6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лова с удвоенной согласной переносим с одной строчки на другую, пользуясь специальным правилом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Копилка слов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57200" y="1600200"/>
          <a:ext cx="8229600" cy="30700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с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нн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пп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лл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рр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2698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Домашняя работа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ыписать из орфографического словаря 8 слов с удвоенной согласно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Тема урока: удвоенные согласны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6840" y="1600200"/>
            <a:ext cx="12351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Цели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39640" y="2133720"/>
            <a:ext cx="784872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знать новые слова с двойными согласным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9280" y="3068280"/>
            <a:ext cx="799308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2. Тренироваться в написании новых сло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39280" y="4149720"/>
            <a:ext cx="799308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3. Применять в речи новые слова с двойными согласным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Спасибо за работу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1143000" y="1500120"/>
            <a:ext cx="71438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Эй Ар Гайд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571680" y="1714680"/>
          <a:ext cx="8115120" cy="4976640"/>
        </p:xfrm>
        <a:graphic>
          <a:graphicData uri="http://schemas.openxmlformats.org/drawingml/2006/table">
            <a:tbl>
              <a:tblPr/>
              <a:tblGrid>
                <a:gridCol w="631800"/>
                <a:gridCol w="6107040"/>
                <a:gridCol w="1376280"/>
              </a:tblGrid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До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Утверждения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После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396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Удвоенные согласные - это две одинаковые согласные буквы, которые в слове стоят рядом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Удвоенные согласные в слове – это орфограмм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лова с удвоенной согласной – это словарные слов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лова с удвоенной согласной переносим с одной строчки на другую, пользуясь специальным правилом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j0415472"/>
          <p:cNvPicPr/>
          <p:nvPr/>
        </p:nvPicPr>
        <p:blipFill>
          <a:blip r:embed="rId1"/>
          <a:stretch/>
        </p:blipFill>
        <p:spPr>
          <a:xfrm>
            <a:off x="1835280" y="981000"/>
            <a:ext cx="4802040" cy="4896000"/>
          </a:xfrm>
          <a:prstGeom prst="rect">
            <a:avLst/>
          </a:prstGeom>
          <a:ln w="0">
            <a:noFill/>
          </a:ln>
        </p:spPr>
      </p:pic>
      <p:sp>
        <p:nvSpPr>
          <p:cNvPr id="291" name="WordArt 3"/>
          <p:cNvSpPr txBox="1"/>
          <p:nvPr/>
        </p:nvSpPr>
        <p:spPr>
          <a:xfrm>
            <a:off x="2627280" y="5373720"/>
            <a:ext cx="936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оро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2" name="WordArt 4"/>
          <p:cNvSpPr txBox="1"/>
          <p:nvPr/>
        </p:nvSpPr>
        <p:spPr>
          <a:xfrm rot="1680600">
            <a:off x="4788000" y="5373360"/>
            <a:ext cx="576000" cy="31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ло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5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Во</a:t>
            </a:r>
            <a:r>
              <a:rPr b="1" lang="ru-RU" sz="3600" spc="-1" strike="noStrike">
                <a:solidFill>
                  <a:srgbClr val="a50021"/>
                </a:solidFill>
                <a:latin typeface="Verdana"/>
              </a:rPr>
              <a:t>жж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и, </a:t>
            </a:r>
            <a:r>
              <a:rPr b="1" lang="ru-RU" sz="3600" spc="-1" strike="noStrike">
                <a:solidFill>
                  <a:srgbClr val="a50021"/>
                </a:solidFill>
                <a:latin typeface="Verdana"/>
              </a:rPr>
              <a:t>сс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ора, гри</a:t>
            </a:r>
            <a:r>
              <a:rPr b="1" lang="ru-RU" sz="3600" spc="-1" strike="noStrike">
                <a:solidFill>
                  <a:srgbClr val="a50021"/>
                </a:solidFill>
                <a:latin typeface="Verdana"/>
              </a:rPr>
              <a:t>пп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и ка</a:t>
            </a:r>
            <a:r>
              <a:rPr b="1" lang="ru-RU" sz="3600" spc="-1" strike="noStrike">
                <a:solidFill>
                  <a:srgbClr val="a50021"/>
                </a:solidFill>
                <a:latin typeface="Verdana"/>
              </a:rPr>
              <a:t>сс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а,</a:t>
            </a:r>
            <a:br>
              <a:rPr sz="3600"/>
            </a:b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па</a:t>
            </a:r>
            <a:r>
              <a:rPr b="1" lang="ru-RU" sz="3600" spc="-1" strike="noStrike">
                <a:solidFill>
                  <a:srgbClr val="a50021"/>
                </a:solidFill>
                <a:latin typeface="Verdana"/>
              </a:rPr>
              <a:t>сс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ажир, пе</a:t>
            </a:r>
            <a:r>
              <a:rPr b="1" lang="ru-RU" sz="3600" spc="-1" strike="noStrike">
                <a:solidFill>
                  <a:srgbClr val="a50021"/>
                </a:solidFill>
                <a:latin typeface="Verdana"/>
              </a:rPr>
              <a:t>рр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он, те</a:t>
            </a:r>
            <a:r>
              <a:rPr b="1" lang="ru-RU" sz="3600" spc="-1" strike="noStrike">
                <a:solidFill>
                  <a:srgbClr val="a50021"/>
                </a:solidFill>
                <a:latin typeface="Verdana"/>
              </a:rPr>
              <a:t>рр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аса,</a:t>
            </a:r>
            <a:br>
              <a:rPr sz="3600"/>
            </a:b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ru-RU" sz="3600" spc="-1" strike="noStrike">
                <a:solidFill>
                  <a:srgbClr val="a50021"/>
                </a:solidFill>
                <a:latin typeface="Verdana"/>
              </a:rPr>
              <a:t>пп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етит и телегра</a:t>
            </a:r>
            <a:r>
              <a:rPr b="1" lang="ru-RU" sz="3600" spc="-1" strike="noStrike">
                <a:solidFill>
                  <a:srgbClr val="a50021"/>
                </a:solidFill>
                <a:latin typeface="Verdana"/>
              </a:rPr>
              <a:t>мм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а, </a:t>
            </a:r>
            <a:br>
              <a:rPr sz="3600"/>
            </a:b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хо</a:t>
            </a:r>
            <a:r>
              <a:rPr b="1" lang="ru-RU" sz="3600" spc="-1" strike="noStrike">
                <a:solidFill>
                  <a:srgbClr val="a50021"/>
                </a:solidFill>
                <a:latin typeface="Verdana"/>
              </a:rPr>
              <a:t>кк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еист и орфогра</a:t>
            </a:r>
            <a:r>
              <a:rPr b="1" lang="ru-RU" sz="3600" spc="-1" strike="noStrike">
                <a:solidFill>
                  <a:srgbClr val="a50021"/>
                </a:solidFill>
                <a:latin typeface="Verdana"/>
              </a:rPr>
              <a:t>мм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а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Мы слова такие слышим</a:t>
            </a:r>
            <a:br>
              <a:rPr sz="3600"/>
            </a:b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и с двойной согласной пишем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539280" y="333360"/>
            <a:ext cx="23036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о</a:t>
            </a:r>
            <a:r>
              <a:rPr b="1" lang="ru-RU" sz="3200" spc="-1" strike="noStrike">
                <a:solidFill>
                  <a:srgbClr val="a50021"/>
                </a:solidFill>
                <a:latin typeface="Verdana"/>
              </a:rPr>
              <a:t>жж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и -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е</a:t>
            </a:r>
            <a:r>
              <a:rPr b="1" lang="ru-RU" sz="3200" spc="-1" strike="noStrike">
                <a:solidFill>
                  <a:srgbClr val="a50021"/>
                </a:solidFill>
                <a:latin typeface="Verdana"/>
              </a:rPr>
              <a:t>рр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н -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е</a:t>
            </a:r>
            <a:r>
              <a:rPr b="1" lang="ru-RU" sz="3200" spc="-1" strike="noStrike">
                <a:solidFill>
                  <a:srgbClr val="a50021"/>
                </a:solidFill>
                <a:latin typeface="Verdana"/>
              </a:rPr>
              <a:t>рр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са -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" name="Rectangle 46"/>
          <p:cNvSpPr/>
          <p:nvPr/>
        </p:nvSpPr>
        <p:spPr>
          <a:xfrm>
            <a:off x="2627280" y="4869000"/>
            <a:ext cx="3097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летняя пристройка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 дому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6" name="Rectangle 49"/>
          <p:cNvSpPr/>
          <p:nvPr/>
        </p:nvSpPr>
        <p:spPr>
          <a:xfrm>
            <a:off x="2411280" y="2637000"/>
            <a:ext cx="273708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ассажирская платформа на вокзал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7" name="Rectangle 50"/>
          <p:cNvSpPr/>
          <p:nvPr/>
        </p:nvSpPr>
        <p:spPr>
          <a:xfrm>
            <a:off x="2411280" y="404640"/>
            <a:ext cx="3060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емни, верёвки для управления лошадью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98" name="Picture 51" descr="вожжи 3"/>
          <p:cNvPicPr/>
          <p:nvPr/>
        </p:nvPicPr>
        <p:blipFill>
          <a:blip r:embed="rId1"/>
          <a:stretch/>
        </p:blipFill>
        <p:spPr>
          <a:xfrm>
            <a:off x="6012000" y="512640"/>
            <a:ext cx="2447640" cy="18352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2" descr="перрон 2"/>
          <p:cNvPicPr/>
          <p:nvPr/>
        </p:nvPicPr>
        <p:blipFill>
          <a:blip r:embed="rId2"/>
          <a:stretch/>
        </p:blipFill>
        <p:spPr>
          <a:xfrm>
            <a:off x="6084720" y="2637000"/>
            <a:ext cx="2376720" cy="17841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3" descr="терраса2"/>
          <p:cNvPicPr/>
          <p:nvPr/>
        </p:nvPicPr>
        <p:blipFill>
          <a:blip r:embed="rId3"/>
          <a:stretch/>
        </p:blipFill>
        <p:spPr>
          <a:xfrm>
            <a:off x="6084720" y="4581360"/>
            <a:ext cx="237492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7704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пассажир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перрон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касса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4000680" y="357120"/>
            <a:ext cx="50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′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3" name="Line 5"/>
          <p:cNvSpPr/>
          <p:nvPr/>
        </p:nvSpPr>
        <p:spPr>
          <a:xfrm>
            <a:off x="1835280" y="1413000"/>
            <a:ext cx="360360" cy="0"/>
          </a:xfrm>
          <a:prstGeom prst="line">
            <a:avLst/>
          </a:prstGeom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4" name="Line 7"/>
          <p:cNvSpPr/>
          <p:nvPr/>
        </p:nvSpPr>
        <p:spPr>
          <a:xfrm>
            <a:off x="3348000" y="1413000"/>
            <a:ext cx="719280" cy="0"/>
          </a:xfrm>
          <a:prstGeom prst="line">
            <a:avLst/>
          </a:prstGeom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5" name="Line 8"/>
          <p:cNvSpPr/>
          <p:nvPr/>
        </p:nvSpPr>
        <p:spPr>
          <a:xfrm>
            <a:off x="2340000" y="1413000"/>
            <a:ext cx="544320" cy="12600"/>
          </a:xfrm>
          <a:prstGeom prst="line">
            <a:avLst/>
          </a:prstGeom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3059280" y="1700280"/>
            <a:ext cx="50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′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7" name="Line 10"/>
          <p:cNvSpPr/>
          <p:nvPr/>
        </p:nvSpPr>
        <p:spPr>
          <a:xfrm>
            <a:off x="1835280" y="2781360"/>
            <a:ext cx="360360" cy="0"/>
          </a:xfrm>
          <a:prstGeom prst="line">
            <a:avLst/>
          </a:prstGeom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8" name="Line 11"/>
          <p:cNvSpPr/>
          <p:nvPr/>
        </p:nvSpPr>
        <p:spPr>
          <a:xfrm>
            <a:off x="2340000" y="2781360"/>
            <a:ext cx="503280" cy="0"/>
          </a:xfrm>
          <a:prstGeom prst="line">
            <a:avLst/>
          </a:prstGeom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1835280" y="314172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′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0" name="Line 13"/>
          <p:cNvSpPr/>
          <p:nvPr/>
        </p:nvSpPr>
        <p:spPr>
          <a:xfrm>
            <a:off x="2195640" y="4149720"/>
            <a:ext cx="576000" cy="0"/>
          </a:xfrm>
          <a:prstGeom prst="line">
            <a:avLst/>
          </a:prstGeom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Чи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пп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олино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1"/>
          <a:stretch/>
        </p:blipFill>
        <p:spPr>
          <a:xfrm>
            <a:off x="2930400" y="1600200"/>
            <a:ext cx="32832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Ви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нн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-Пу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2343240" y="1600200"/>
            <a:ext cx="445608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6:26:56Z</dcterms:created>
  <dc:creator>15</dc:creator>
  <dc:description/>
  <dc:language>en-US</dc:language>
  <cp:lastModifiedBy>Windows 8</cp:lastModifiedBy>
  <dcterms:modified xsi:type="dcterms:W3CDTF">2016-12-19T20:16:53Z</dcterms:modified>
  <cp:revision>143</cp:revision>
  <dc:subject/>
  <dc:title>Йогурт, Йемен, йод и йог: Буква «Й» лаёт урок                                А. Кочергина</dc:title>
</cp:coreProperties>
</file>